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467-0B89-49D8-816F-CD684835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8CB-777B-4CF6-9979-8DE1705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0D9-3E3D-48AE-BED7-C4323C30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37E-EFC6-4A60-A347-4482B023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EEC-D7B8-4655-9693-E41EE0CF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F15-1BCB-4C52-9154-0217A034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FCF-BE68-403F-90CF-1BDE6D4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F59-86C8-48F1-A9DD-45EC533D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50F-74EA-4131-98B5-CE7DB09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B8D-0C24-4200-8490-FB67B2AA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B0B-8A0D-403B-B8EE-202E228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868-52AB-4502-91B1-4862D80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8286-1F09-4AAF-AE7C-6D1B2316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65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90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52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n der Schwingung mit ungeladenem Kondens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133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158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U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+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3657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1680" y="2209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8954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2057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434340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146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238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2640" y="38098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142640" y="35812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30481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10800000">
            <a:off x="30481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290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30481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10800000">
            <a:off x="30481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0481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10800000">
            <a:off x="30481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4290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343040" y="2743200"/>
            <a:ext cx="762480" cy="1828800"/>
            <a:chOff x="4343040" y="2743200"/>
            <a:chExt cx="762480" cy="1828800"/>
          </a:xfrm>
        </p:grpSpPr>
        <p:sp>
          <p:nvSpPr>
            <p:cNvPr id="206" name=""/>
            <p:cNvSpPr/>
            <p:nvPr/>
          </p:nvSpPr>
          <p:spPr>
            <a:xfrm rot="10800000">
              <a:off x="43430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 rot="10800000">
              <a:off x="43430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242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242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43430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0800000">
              <a:off x="43430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7242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43430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10800000">
              <a:off x="43430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7242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43430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10800000">
              <a:off x="43430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H="1">
            <a:off x="47242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5142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1144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294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286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15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868000" y="1295280"/>
            <a:ext cx="1517040" cy="648000"/>
            <a:chOff x="5868000" y="1295280"/>
            <a:chExt cx="1517040" cy="648000"/>
          </a:xfrm>
        </p:grpSpPr>
        <p:sp>
          <p:nvSpPr>
            <p:cNvPr id="231" name=""/>
            <p:cNvSpPr/>
            <p:nvPr/>
          </p:nvSpPr>
          <p:spPr>
            <a:xfrm rot="10800000">
              <a:off x="66312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0800000">
              <a:off x="58676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25146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2485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7239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9436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954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71800" y="7621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572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81080" y="27432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981080" y="457200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599840" y="3809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3809880"/>
            <a:ext cx="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99840" y="35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27432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743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048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3505320" y="327636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 rot="10800000">
            <a:off x="3505320" y="31240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12408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886200" y="34290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505320" y="3657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10800000">
            <a:off x="3505320" y="350424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388620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41911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3505320" y="4038480"/>
            <a:ext cx="380880" cy="1526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3505320" y="3885120"/>
            <a:ext cx="380880" cy="1522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3505320"/>
            <a:ext cx="380880" cy="38088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86200" y="3809160"/>
            <a:ext cx="380880" cy="381240"/>
          </a:xfrm>
          <a:custGeom>
            <a:avLst/>
            <a:gdLst/>
            <a:ahLst/>
            <a:rect l="l" t="t" r="r" b="b"/>
            <a:pathLst>
              <a:path w="624" h="295">
                <a:moveTo>
                  <a:pt x="0" y="7"/>
                </a:moveTo>
                <a:cubicBezTo>
                  <a:pt x="44" y="3"/>
                  <a:pt x="87" y="0"/>
                  <a:pt x="144" y="7"/>
                </a:cubicBezTo>
                <a:cubicBezTo>
                  <a:pt x="201" y="14"/>
                  <a:pt x="286" y="31"/>
                  <a:pt x="342" y="47"/>
                </a:cubicBezTo>
                <a:cubicBezTo>
                  <a:pt x="398" y="63"/>
                  <a:pt x="439" y="76"/>
                  <a:pt x="480" y="103"/>
                </a:cubicBezTo>
                <a:cubicBezTo>
                  <a:pt x="521" y="130"/>
                  <a:pt x="564" y="177"/>
                  <a:pt x="588" y="209"/>
                </a:cubicBezTo>
                <a:cubicBezTo>
                  <a:pt x="612" y="241"/>
                  <a:pt x="617" y="277"/>
                  <a:pt x="624" y="295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743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00240" y="2743200"/>
            <a:ext cx="762480" cy="1828800"/>
            <a:chOff x="4800240" y="2743200"/>
            <a:chExt cx="762480" cy="1828800"/>
          </a:xfrm>
        </p:grpSpPr>
        <p:sp>
          <p:nvSpPr>
            <p:cNvPr id="273" name=""/>
            <p:cNvSpPr/>
            <p:nvPr/>
          </p:nvSpPr>
          <p:spPr>
            <a:xfrm rot="10800000">
              <a:off x="4800240" y="4191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10800000">
              <a:off x="4800240" y="3886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81480" y="38865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181480" y="40384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4800240" y="38098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 rot="10800000">
              <a:off x="4800240" y="35053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1480" y="35056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181480" y="365796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4800240" y="304812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10800000">
              <a:off x="4800240" y="27432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81480" y="3124080"/>
              <a:ext cx="381240" cy="1526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181480" y="3277080"/>
              <a:ext cx="381240" cy="1522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4800240" y="3429000"/>
              <a:ext cx="380880" cy="38088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10800000">
              <a:off x="4800240" y="3124080"/>
              <a:ext cx="380880" cy="381240"/>
            </a:xfrm>
            <a:custGeom>
              <a:avLst/>
              <a:gdLst/>
              <a:ahLst/>
              <a:rect l="l" t="t" r="r" b="b"/>
              <a:pathLst>
                <a:path w="624" h="295">
                  <a:moveTo>
                    <a:pt x="0" y="7"/>
                  </a:moveTo>
                  <a:cubicBezTo>
                    <a:pt x="44" y="3"/>
                    <a:pt x="87" y="0"/>
                    <a:pt x="144" y="7"/>
                  </a:cubicBezTo>
                  <a:cubicBezTo>
                    <a:pt x="201" y="14"/>
                    <a:pt x="286" y="31"/>
                    <a:pt x="342" y="47"/>
                  </a:cubicBezTo>
                  <a:cubicBezTo>
                    <a:pt x="398" y="63"/>
                    <a:pt x="439" y="76"/>
                    <a:pt x="480" y="103"/>
                  </a:cubicBezTo>
                  <a:cubicBezTo>
                    <a:pt x="521" y="130"/>
                    <a:pt x="564" y="177"/>
                    <a:pt x="588" y="209"/>
                  </a:cubicBezTo>
                  <a:cubicBezTo>
                    <a:pt x="612" y="241"/>
                    <a:pt x="617" y="277"/>
                    <a:pt x="624" y="295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5181480" y="4572000"/>
            <a:ext cx="19051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971440" y="5867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5791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5791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571640" y="5867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34290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3200400"/>
            <a:ext cx="75420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085880" y="3200400"/>
            <a:ext cx="755640" cy="647640"/>
          </a:xfrm>
          <a:custGeom>
            <a:avLst/>
            <a:gdLst/>
            <a:ahLst/>
            <a:rect l="l" t="t" r="r" b="b"/>
            <a:pathLst>
              <a:path w="475" h="408">
                <a:moveTo>
                  <a:pt x="3" y="0"/>
                </a:moveTo>
                <a:cubicBezTo>
                  <a:pt x="6" y="25"/>
                  <a:pt x="0" y="103"/>
                  <a:pt x="19" y="152"/>
                </a:cubicBezTo>
                <a:cubicBezTo>
                  <a:pt x="38" y="201"/>
                  <a:pt x="76" y="259"/>
                  <a:pt x="115" y="296"/>
                </a:cubicBezTo>
                <a:cubicBezTo>
                  <a:pt x="154" y="333"/>
                  <a:pt x="207" y="359"/>
                  <a:pt x="251" y="376"/>
                </a:cubicBezTo>
                <a:cubicBezTo>
                  <a:pt x="295" y="393"/>
                  <a:pt x="342" y="395"/>
                  <a:pt x="379" y="400"/>
                </a:cubicBezTo>
                <a:cubicBezTo>
                  <a:pt x="416" y="405"/>
                  <a:pt x="455" y="406"/>
                  <a:pt x="475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1905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325200" y="1295280"/>
            <a:ext cx="1517040" cy="648000"/>
            <a:chOff x="6325200" y="1295280"/>
            <a:chExt cx="1517040" cy="648000"/>
          </a:xfrm>
        </p:grpSpPr>
        <p:sp>
          <p:nvSpPr>
            <p:cNvPr id="298" name=""/>
            <p:cNvSpPr/>
            <p:nvPr/>
          </p:nvSpPr>
          <p:spPr>
            <a:xfrm rot="10800000">
              <a:off x="7088400" y="1295280"/>
              <a:ext cx="7538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0800000">
              <a:off x="6324840" y="1295280"/>
              <a:ext cx="755640" cy="648000"/>
            </a:xfrm>
            <a:custGeom>
              <a:avLst/>
              <a:gdLst/>
              <a:ahLst/>
              <a:rect l="l" t="t" r="r" b="b"/>
              <a:pathLst>
                <a:path w="475" h="408">
                  <a:moveTo>
                    <a:pt x="3" y="0"/>
                  </a:moveTo>
                  <a:cubicBezTo>
                    <a:pt x="6" y="25"/>
                    <a:pt x="0" y="103"/>
                    <a:pt x="19" y="152"/>
                  </a:cubicBezTo>
                  <a:cubicBezTo>
                    <a:pt x="38" y="201"/>
                    <a:pt x="76" y="259"/>
                    <a:pt x="115" y="296"/>
                  </a:cubicBezTo>
                  <a:cubicBezTo>
                    <a:pt x="154" y="333"/>
                    <a:pt x="207" y="359"/>
                    <a:pt x="251" y="376"/>
                  </a:cubicBezTo>
                  <a:cubicBezTo>
                    <a:pt x="295" y="393"/>
                    <a:pt x="342" y="395"/>
                    <a:pt x="379" y="400"/>
                  </a:cubicBezTo>
                  <a:cubicBezTo>
                    <a:pt x="416" y="405"/>
                    <a:pt x="455" y="406"/>
                    <a:pt x="475" y="4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2971800" y="7621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7621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705720" y="1752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3352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4495680"/>
            <a:ext cx="152640" cy="152640"/>
          </a:xfrm>
          <a:prstGeom prst="ellipse">
            <a:avLst/>
          </a:prstGeom>
          <a:solidFill>
            <a:srgbClr val="990099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1811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400800" y="2743200"/>
            <a:ext cx="1371600" cy="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U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190512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I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U   = -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3657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+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3124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28195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62920" y="190512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48320" y="41148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33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19810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858000" y="1752480"/>
            <a:ext cx="457200" cy="642600"/>
            <a:chOff x="6858000" y="1752480"/>
            <a:chExt cx="457200" cy="642600"/>
          </a:xfrm>
        </p:grpSpPr>
        <p:sp>
          <p:nvSpPr>
            <p:cNvPr id="323" name=""/>
            <p:cNvSpPr/>
            <p:nvPr/>
          </p:nvSpPr>
          <p:spPr>
            <a:xfrm>
              <a:off x="6922800" y="20235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8000" y="1752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638680" y="380880"/>
            <a:ext cx="457200" cy="642600"/>
            <a:chOff x="5638680" y="380880"/>
            <a:chExt cx="457200" cy="642600"/>
          </a:xfrm>
        </p:grpSpPr>
        <p:sp>
          <p:nvSpPr>
            <p:cNvPr id="326" name=""/>
            <p:cNvSpPr/>
            <p:nvPr/>
          </p:nvSpPr>
          <p:spPr>
            <a:xfrm>
              <a:off x="5703480" y="651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8680" y="380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1143000"/>
            <a:ext cx="457200" cy="642600"/>
            <a:chOff x="6934320" y="1143000"/>
            <a:chExt cx="457200" cy="642600"/>
          </a:xfrm>
        </p:grpSpPr>
        <p:sp>
          <p:nvSpPr>
            <p:cNvPr id="329" name=""/>
            <p:cNvSpPr/>
            <p:nvPr/>
          </p:nvSpPr>
          <p:spPr>
            <a:xfrm>
              <a:off x="6999120" y="141408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34320" y="1143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962520" y="380880"/>
            <a:ext cx="457200" cy="642600"/>
            <a:chOff x="3962520" y="380880"/>
            <a:chExt cx="457200" cy="642600"/>
          </a:xfrm>
        </p:grpSpPr>
        <p:sp>
          <p:nvSpPr>
            <p:cNvPr id="332" name=""/>
            <p:cNvSpPr/>
            <p:nvPr/>
          </p:nvSpPr>
          <p:spPr>
            <a:xfrm>
              <a:off x="4027320" y="651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62520" y="380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828800" y="2590920"/>
            <a:ext cx="457200" cy="642600"/>
            <a:chOff x="1828800" y="2590920"/>
            <a:chExt cx="457200" cy="642600"/>
          </a:xfrm>
        </p:grpSpPr>
        <p:sp>
          <p:nvSpPr>
            <p:cNvPr id="335" name=""/>
            <p:cNvSpPr/>
            <p:nvPr/>
          </p:nvSpPr>
          <p:spPr>
            <a:xfrm>
              <a:off x="1893600" y="2862000"/>
              <a:ext cx="195840" cy="203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28800" y="2590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819520" y="914400"/>
            <a:ext cx="457200" cy="642600"/>
            <a:chOff x="2819520" y="914400"/>
            <a:chExt cx="457200" cy="642600"/>
          </a:xfrm>
        </p:grpSpPr>
        <p:sp>
          <p:nvSpPr>
            <p:cNvPr id="338" name=""/>
            <p:cNvSpPr/>
            <p:nvPr/>
          </p:nvSpPr>
          <p:spPr>
            <a:xfrm>
              <a:off x="2884320" y="118548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19520" y="914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V="1">
            <a:off x="6781680" y="190512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0" y="2666880"/>
            <a:ext cx="457200" cy="642600"/>
            <a:chOff x="6858000" y="2666880"/>
            <a:chExt cx="457200" cy="642600"/>
          </a:xfrm>
        </p:grpSpPr>
        <p:sp>
          <p:nvSpPr>
            <p:cNvPr id="342" name=""/>
            <p:cNvSpPr/>
            <p:nvPr/>
          </p:nvSpPr>
          <p:spPr>
            <a:xfrm>
              <a:off x="6922800" y="2937960"/>
              <a:ext cx="1958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0" y="2666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6781680" y="281952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10280" y="914400"/>
            <a:ext cx="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257800" y="609120"/>
            <a:ext cx="457200" cy="18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581280" y="609120"/>
            <a:ext cx="457200" cy="18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19520" y="1447920"/>
            <a:ext cx="144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828800" y="3048120"/>
            <a:ext cx="1440" cy="4572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>
            <a:off x="8153280" y="59436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17806" y="12337"/>
                </a:lnTo>
                <a:lnTo>
                  <a:pt x="3794" y="193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60948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jetzt 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153280" y="5181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20:17:33Z</dcterms:created>
  <dc:creator>Martin Oberleitner</dc:creator>
  <dc:description/>
  <dc:language>en-US</dc:language>
  <cp:lastModifiedBy>Martin Oberleitner</cp:lastModifiedBy>
  <dcterms:modified xsi:type="dcterms:W3CDTF">2003-04-27T21:29:56Z</dcterms:modified>
  <cp:revision>1</cp:revision>
  <dc:subject/>
  <dc:title>PowerPoint-Präsentation</dc:title>
</cp:coreProperties>
</file>